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ash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RNEIRO, T. G. S. ; ANDRADE, P. R. ; Câmara, G. ; Monteiro, A. M. V.; PEREIRA, R. R. . TerraME: an extensible toolbox for modeling nature-society interactions. Environmental Modelling &amp; Software,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erusalimschy, R., L. H. Figueiredo, et al. (1996). "Lua-an extensible extension language."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Software: Practice &amp; Experience </a:t>
            </a: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26(6): 635-6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7C74-8C70-475D-B59B-3BD8E311C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57CF-6835-4A7D-B1E7-2EA7E24CE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2DD2-FADF-4D84-BF71-B731550DA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B356-51CC-41A2-84CF-B44F9C52C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BA82-79EB-4688-852E-EE4F8AD7C5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268D-1013-4FA7-8C51-8BA24BB01D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E096-B36F-4771-8980-40F650A856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280B-9C73-4DB5-B618-B4E4F82F5E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C2C6-5F83-4327-8697-926CFD2824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4C99-8614-4FF4-95F4-C8D85691C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7623-EF32-44F4-8130-436FE5BAC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5E57-F575-4E79-A962-ED5D664F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14A7-DE0D-4FF2-ABB8-8C843C3BF7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DA1A-EBA5-4A10-8736-9A76B6DFAB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C1B7-A192-4776-8D46-1EE3709C1F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3EDB-2200-4E31-8103-F276CCD7C5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7B17-37ED-45D4-AE27-CA5271DA0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56DA-3752-4266-8F3F-E509357C2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6FA4-5A87-44F4-BC93-F643910F0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6448-2329-4F6D-A3FA-83C147D1C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B5EC-8B57-4B40-96AC-2E1EE5BB0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D512-C632-44F7-97B3-2E282F020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EB98-0030-4848-93EE-28DA5BF9C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A05B-7B1B-41B7-9E7D-7F8F86ED6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672-F932-46EC-8583-DF135734EF9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F808-B86B-4019-BDCC-92A0D4E8519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Lua for TerraME: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 Short Introduc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image.png"/>
          <p:cNvPicPr/>
          <p:nvPr/>
        </p:nvPicPr>
        <p:blipFill>
          <a:blip r:embed="rId1"/>
          <a:stretch/>
        </p:blipFill>
        <p:spPr>
          <a:xfrm>
            <a:off x="7216920" y="4508640"/>
            <a:ext cx="1601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mm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557000"/>
            <a:ext cx="853452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uble hyphen (--) until the end of th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lock comments start with --[[ and run until 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 -- my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- 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[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rint(1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53452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i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erything that does no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"a string!!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print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boolea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02" name="Picture 2" descr="Captura de Tela 2013-03-21 às 08.21.54.png"/>
          <p:cNvPicPr/>
          <p:nvPr/>
        </p:nvPicPr>
        <p:blipFill>
          <a:blip r:embed="rId1"/>
          <a:stretch/>
        </p:blipFill>
        <p:spPr>
          <a:xfrm>
            <a:off x="1332000" y="3112920"/>
            <a:ext cx="3263760" cy="2044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aptura de Tela 2013-03-21 às 08.23.47.png"/>
          <p:cNvPicPr/>
          <p:nvPr/>
        </p:nvPicPr>
        <p:blipFill>
          <a:blip r:embed="rId2"/>
          <a:stretch/>
        </p:blipFill>
        <p:spPr>
          <a:xfrm>
            <a:off x="4819680" y="3098880"/>
            <a:ext cx="335268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nil and false are false, everything else is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zero and the empty string ar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(and)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    (or)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or fals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and (false or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false or (true and false) or (true and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umb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53452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 only type for numeric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uble-precision floating-point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ithmetic operators: +, –, *, 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ponent (^) and modulus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lean  operators (&lt;, &gt;, &lt;=, &gt;=, ~=, and ==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6 + 2.2 * 4e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 ^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A %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 &gt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 ~= 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enthe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028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 fontScale="74000"/>
          </a:bodyPr>
          <a:p>
            <a:pPr marL="138240" indent="0">
              <a:spcBef>
                <a:spcPts val="300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optional (except in the case of function c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When in doubt, use parenthe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+-i &lt; b/2+1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+(-i)) &lt; ((b/2)+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x^2*8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((x^2)*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&lt; y and y &lt;= 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 &lt; y) and (y &lt;= 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x^y^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(x^(y^z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str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916280"/>
            <a:ext cx="8534520" cy="34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gle or double quo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perator 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'hello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"x = "..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if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n if statement tests condition and executes its then-part or its else-part (optional) according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= 6; b =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0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lt;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gt;=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b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+ 5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b &lt;= a &l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g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or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statement to repeat other statements, with the following syntax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ar = exp1, exp2, exp3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hat loop will execute something for each value of var from exp1 to exp2, using exp3 as the step to increment var. This third expression is optional (default is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, 2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he only structured data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n implement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{7, 3, 2, 6, 4, 3, 9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[1] = x[2] + x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#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 = 1, #x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i.." "..x[i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6804000" y="4941720"/>
            <a:ext cx="1944720" cy="115128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56360" y="6622920"/>
            <a:ext cx="295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Helvetica Light"/>
              </a:rPr>
              <a:t>Source: Miller and Page 200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187280" y="1628640"/>
            <a:ext cx="27370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6300720" y="1628640"/>
            <a:ext cx="27352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619280" y="4869000"/>
            <a:ext cx="1944720" cy="115236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10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4902840" y="14112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13" name="Rectangle 12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ectangle 14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-396720" y="5261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2671920" y="5587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212400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5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6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7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9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30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979640" y="3859200"/>
            <a:ext cx="1152360" cy="433440"/>
            <a:chOff x="1979640" y="3859200"/>
            <a:chExt cx="1152360" cy="433440"/>
          </a:xfrm>
        </p:grpSpPr>
        <p:sp>
          <p:nvSpPr>
            <p:cNvPr id="134" name="Rectangle 33"/>
            <p:cNvSpPr/>
            <p:nvPr/>
          </p:nvSpPr>
          <p:spPr>
            <a:xfrm>
              <a:off x="1979640" y="3859200"/>
              <a:ext cx="115236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2292120" y="3859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"/>
          <p:cNvGrpSpPr/>
          <p:nvPr/>
        </p:nvGrpSpPr>
        <p:grpSpPr>
          <a:xfrm>
            <a:off x="7164360" y="3932280"/>
            <a:ext cx="1152720" cy="433440"/>
            <a:chOff x="7164360" y="3932280"/>
            <a:chExt cx="1152720" cy="433440"/>
          </a:xfrm>
        </p:grpSpPr>
        <p:sp>
          <p:nvSpPr>
            <p:cNvPr id="137" name="Rectangle 36"/>
            <p:cNvSpPr/>
            <p:nvPr/>
          </p:nvSpPr>
          <p:spPr>
            <a:xfrm>
              <a:off x="7164360" y="3932280"/>
              <a:ext cx="115272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7477200" y="3932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Line 38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1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2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43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5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7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48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50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1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52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53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54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5"/>
          <p:cNvSpPr/>
          <p:nvPr/>
        </p:nvSpPr>
        <p:spPr>
          <a:xfrm>
            <a:off x="7269120" y="2610000"/>
            <a:ext cx="974880" cy="590400"/>
          </a:xfrm>
          <a:custGeom>
            <a:avLst/>
            <a:gdLst/>
            <a:ahLst/>
            <a:rect l="l" t="t" r="r" b="b"/>
            <a:pathLst>
              <a:path w="21484" h="21217">
                <a:moveTo>
                  <a:pt x="0" y="16225"/>
                </a:moveTo>
                <a:cubicBezTo>
                  <a:pt x="1364" y="9605"/>
                  <a:pt x="-101" y="14745"/>
                  <a:pt x="1372" y="12065"/>
                </a:cubicBezTo>
                <a:cubicBezTo>
                  <a:pt x="2560" y="9902"/>
                  <a:pt x="1155" y="11631"/>
                  <a:pt x="2286" y="9985"/>
                </a:cubicBezTo>
                <a:cubicBezTo>
                  <a:pt x="2500" y="9672"/>
                  <a:pt x="2713" y="9323"/>
                  <a:pt x="2972" y="9152"/>
                </a:cubicBezTo>
                <a:cubicBezTo>
                  <a:pt x="3562" y="8762"/>
                  <a:pt x="4800" y="8320"/>
                  <a:pt x="4800" y="8320"/>
                </a:cubicBezTo>
                <a:cubicBezTo>
                  <a:pt x="5029" y="8043"/>
                  <a:pt x="5235" y="7691"/>
                  <a:pt x="5486" y="7488"/>
                </a:cubicBezTo>
                <a:cubicBezTo>
                  <a:pt x="5486" y="7488"/>
                  <a:pt x="7200" y="6449"/>
                  <a:pt x="7543" y="6240"/>
                </a:cubicBezTo>
                <a:lnTo>
                  <a:pt x="8228" y="5824"/>
                </a:lnTo>
                <a:cubicBezTo>
                  <a:pt x="8457" y="5686"/>
                  <a:pt x="8714" y="5652"/>
                  <a:pt x="8914" y="5408"/>
                </a:cubicBezTo>
                <a:cubicBezTo>
                  <a:pt x="9143" y="5131"/>
                  <a:pt x="9347" y="4773"/>
                  <a:pt x="9600" y="4576"/>
                </a:cubicBezTo>
                <a:cubicBezTo>
                  <a:pt x="10494" y="3879"/>
                  <a:pt x="10963" y="4447"/>
                  <a:pt x="11885" y="3328"/>
                </a:cubicBezTo>
                <a:cubicBezTo>
                  <a:pt x="12114" y="3051"/>
                  <a:pt x="12325" y="2720"/>
                  <a:pt x="12571" y="2496"/>
                </a:cubicBezTo>
                <a:cubicBezTo>
                  <a:pt x="12936" y="2164"/>
                  <a:pt x="13829" y="1842"/>
                  <a:pt x="14171" y="1664"/>
                </a:cubicBezTo>
                <a:cubicBezTo>
                  <a:pt x="14402" y="1544"/>
                  <a:pt x="14625" y="1369"/>
                  <a:pt x="14856" y="1248"/>
                </a:cubicBezTo>
                <a:cubicBezTo>
                  <a:pt x="15159" y="1091"/>
                  <a:pt x="15469" y="989"/>
                  <a:pt x="15771" y="832"/>
                </a:cubicBezTo>
                <a:cubicBezTo>
                  <a:pt x="18066" y="-361"/>
                  <a:pt x="14513" y="1301"/>
                  <a:pt x="17371" y="0"/>
                </a:cubicBezTo>
                <a:cubicBezTo>
                  <a:pt x="19835" y="690"/>
                  <a:pt x="19900" y="-383"/>
                  <a:pt x="21027" y="2080"/>
                </a:cubicBezTo>
                <a:cubicBezTo>
                  <a:pt x="21203" y="2464"/>
                  <a:pt x="21332" y="2912"/>
                  <a:pt x="21485" y="3328"/>
                </a:cubicBezTo>
                <a:cubicBezTo>
                  <a:pt x="21332" y="5824"/>
                  <a:pt x="21499" y="8456"/>
                  <a:pt x="21027" y="10817"/>
                </a:cubicBezTo>
                <a:cubicBezTo>
                  <a:pt x="20840" y="11756"/>
                  <a:pt x="20177" y="12164"/>
                  <a:pt x="19656" y="12481"/>
                </a:cubicBezTo>
                <a:cubicBezTo>
                  <a:pt x="17933" y="13526"/>
                  <a:pt x="20057" y="12116"/>
                  <a:pt x="18285" y="13729"/>
                </a:cubicBezTo>
                <a:cubicBezTo>
                  <a:pt x="18069" y="13925"/>
                  <a:pt x="17815" y="13949"/>
                  <a:pt x="17599" y="14145"/>
                </a:cubicBezTo>
                <a:cubicBezTo>
                  <a:pt x="15827" y="15758"/>
                  <a:pt x="17951" y="14347"/>
                  <a:pt x="16228" y="15393"/>
                </a:cubicBezTo>
                <a:cubicBezTo>
                  <a:pt x="15999" y="15809"/>
                  <a:pt x="15836" y="16397"/>
                  <a:pt x="15542" y="16641"/>
                </a:cubicBezTo>
                <a:cubicBezTo>
                  <a:pt x="14970" y="17114"/>
                  <a:pt x="14310" y="17111"/>
                  <a:pt x="13714" y="17473"/>
                </a:cubicBezTo>
                <a:lnTo>
                  <a:pt x="13028" y="17889"/>
                </a:lnTo>
                <a:cubicBezTo>
                  <a:pt x="12876" y="18166"/>
                  <a:pt x="12769" y="18566"/>
                  <a:pt x="12571" y="18721"/>
                </a:cubicBezTo>
                <a:cubicBezTo>
                  <a:pt x="12347" y="18896"/>
                  <a:pt x="10173" y="19506"/>
                  <a:pt x="10057" y="19553"/>
                </a:cubicBezTo>
                <a:cubicBezTo>
                  <a:pt x="9822" y="19648"/>
                  <a:pt x="9607" y="19883"/>
                  <a:pt x="9371" y="19969"/>
                </a:cubicBezTo>
                <a:cubicBezTo>
                  <a:pt x="8843" y="20161"/>
                  <a:pt x="8301" y="20210"/>
                  <a:pt x="7771" y="20385"/>
                </a:cubicBezTo>
                <a:cubicBezTo>
                  <a:pt x="7140" y="20594"/>
                  <a:pt x="6759" y="20861"/>
                  <a:pt x="6171" y="21217"/>
                </a:cubicBezTo>
                <a:cubicBezTo>
                  <a:pt x="4495" y="21078"/>
                  <a:pt x="2816" y="21045"/>
                  <a:pt x="1143" y="20801"/>
                </a:cubicBezTo>
                <a:cubicBezTo>
                  <a:pt x="903" y="20766"/>
                  <a:pt x="598" y="20742"/>
                  <a:pt x="457" y="20385"/>
                </a:cubicBezTo>
                <a:cubicBezTo>
                  <a:pt x="-72" y="19036"/>
                  <a:pt x="77" y="16918"/>
                  <a:pt x="0" y="1622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6904080" y="1755720"/>
            <a:ext cx="1714320" cy="865080"/>
          </a:xfrm>
          <a:custGeom>
            <a:avLst/>
            <a:gdLst/>
            <a:ahLst/>
            <a:rect l="l" t="t" r="r" b="b"/>
            <a:pathLst>
              <a:path w="21364" h="21506">
                <a:moveTo>
                  <a:pt x="0" y="4033"/>
                </a:moveTo>
                <a:cubicBezTo>
                  <a:pt x="336" y="3249"/>
                  <a:pt x="644" y="2411"/>
                  <a:pt x="1009" y="1680"/>
                </a:cubicBezTo>
                <a:cubicBezTo>
                  <a:pt x="1152" y="1395"/>
                  <a:pt x="1359" y="1267"/>
                  <a:pt x="1514" y="1008"/>
                </a:cubicBezTo>
                <a:cubicBezTo>
                  <a:pt x="1697" y="704"/>
                  <a:pt x="1850" y="336"/>
                  <a:pt x="2019" y="0"/>
                </a:cubicBezTo>
                <a:cubicBezTo>
                  <a:pt x="3701" y="112"/>
                  <a:pt x="5396" y="-94"/>
                  <a:pt x="7065" y="336"/>
                </a:cubicBezTo>
                <a:cubicBezTo>
                  <a:pt x="7241" y="382"/>
                  <a:pt x="7154" y="1028"/>
                  <a:pt x="7233" y="1344"/>
                </a:cubicBezTo>
                <a:cubicBezTo>
                  <a:pt x="7538" y="2560"/>
                  <a:pt x="7492" y="2301"/>
                  <a:pt x="8074" y="2688"/>
                </a:cubicBezTo>
                <a:cubicBezTo>
                  <a:pt x="8355" y="3249"/>
                  <a:pt x="8696" y="3710"/>
                  <a:pt x="8916" y="4369"/>
                </a:cubicBezTo>
                <a:cubicBezTo>
                  <a:pt x="9028" y="4705"/>
                  <a:pt x="9081" y="5163"/>
                  <a:pt x="9252" y="5377"/>
                </a:cubicBezTo>
                <a:cubicBezTo>
                  <a:pt x="9553" y="5752"/>
                  <a:pt x="10261" y="6049"/>
                  <a:pt x="10261" y="6049"/>
                </a:cubicBezTo>
                <a:cubicBezTo>
                  <a:pt x="10878" y="5937"/>
                  <a:pt x="11502" y="5928"/>
                  <a:pt x="12112" y="5713"/>
                </a:cubicBezTo>
                <a:cubicBezTo>
                  <a:pt x="12461" y="5590"/>
                  <a:pt x="12768" y="5105"/>
                  <a:pt x="13121" y="5041"/>
                </a:cubicBezTo>
                <a:cubicBezTo>
                  <a:pt x="14168" y="4851"/>
                  <a:pt x="15126" y="4740"/>
                  <a:pt x="16149" y="4369"/>
                </a:cubicBezTo>
                <a:cubicBezTo>
                  <a:pt x="16376" y="4286"/>
                  <a:pt x="16598" y="4145"/>
                  <a:pt x="16822" y="4033"/>
                </a:cubicBezTo>
                <a:cubicBezTo>
                  <a:pt x="17551" y="4145"/>
                  <a:pt x="18283" y="4198"/>
                  <a:pt x="19009" y="4369"/>
                </a:cubicBezTo>
                <a:cubicBezTo>
                  <a:pt x="19238" y="4423"/>
                  <a:pt x="19475" y="4498"/>
                  <a:pt x="19682" y="4705"/>
                </a:cubicBezTo>
                <a:cubicBezTo>
                  <a:pt x="21529" y="6550"/>
                  <a:pt x="18319" y="4245"/>
                  <a:pt x="20523" y="5713"/>
                </a:cubicBezTo>
                <a:cubicBezTo>
                  <a:pt x="20836" y="6338"/>
                  <a:pt x="20983" y="6545"/>
                  <a:pt x="21196" y="7393"/>
                </a:cubicBezTo>
                <a:cubicBezTo>
                  <a:pt x="21275" y="7710"/>
                  <a:pt x="21308" y="8065"/>
                  <a:pt x="21364" y="8401"/>
                </a:cubicBezTo>
                <a:cubicBezTo>
                  <a:pt x="21308" y="9969"/>
                  <a:pt x="21288" y="11544"/>
                  <a:pt x="21196" y="13105"/>
                </a:cubicBezTo>
                <a:cubicBezTo>
                  <a:pt x="21175" y="13457"/>
                  <a:pt x="21130" y="13825"/>
                  <a:pt x="21027" y="14113"/>
                </a:cubicBezTo>
                <a:cubicBezTo>
                  <a:pt x="20450" y="15728"/>
                  <a:pt x="20268" y="15515"/>
                  <a:pt x="19345" y="16130"/>
                </a:cubicBezTo>
                <a:lnTo>
                  <a:pt x="18841" y="16466"/>
                </a:lnTo>
                <a:cubicBezTo>
                  <a:pt x="18448" y="16354"/>
                  <a:pt x="18043" y="16357"/>
                  <a:pt x="17663" y="16130"/>
                </a:cubicBezTo>
                <a:cubicBezTo>
                  <a:pt x="16666" y="15532"/>
                  <a:pt x="17584" y="15547"/>
                  <a:pt x="16822" y="14785"/>
                </a:cubicBezTo>
                <a:cubicBezTo>
                  <a:pt x="16505" y="14469"/>
                  <a:pt x="16149" y="14337"/>
                  <a:pt x="15813" y="14113"/>
                </a:cubicBezTo>
                <a:lnTo>
                  <a:pt x="14299" y="13105"/>
                </a:lnTo>
                <a:cubicBezTo>
                  <a:pt x="13622" y="13331"/>
                  <a:pt x="13258" y="13168"/>
                  <a:pt x="12785" y="14113"/>
                </a:cubicBezTo>
                <a:cubicBezTo>
                  <a:pt x="12642" y="14399"/>
                  <a:pt x="12600" y="14856"/>
                  <a:pt x="12448" y="15121"/>
                </a:cubicBezTo>
                <a:cubicBezTo>
                  <a:pt x="12144" y="15653"/>
                  <a:pt x="11439" y="16466"/>
                  <a:pt x="11439" y="16466"/>
                </a:cubicBezTo>
                <a:cubicBezTo>
                  <a:pt x="10934" y="17978"/>
                  <a:pt x="10962" y="18454"/>
                  <a:pt x="10261" y="19154"/>
                </a:cubicBezTo>
                <a:cubicBezTo>
                  <a:pt x="10103" y="19312"/>
                  <a:pt x="9925" y="19378"/>
                  <a:pt x="9757" y="19490"/>
                </a:cubicBezTo>
                <a:cubicBezTo>
                  <a:pt x="9444" y="20115"/>
                  <a:pt x="9340" y="20410"/>
                  <a:pt x="8916" y="20834"/>
                </a:cubicBezTo>
                <a:cubicBezTo>
                  <a:pt x="8674" y="21075"/>
                  <a:pt x="7954" y="21398"/>
                  <a:pt x="7738" y="21506"/>
                </a:cubicBezTo>
                <a:cubicBezTo>
                  <a:pt x="7289" y="21394"/>
                  <a:pt x="6817" y="21479"/>
                  <a:pt x="6392" y="21170"/>
                </a:cubicBezTo>
                <a:cubicBezTo>
                  <a:pt x="6169" y="21008"/>
                  <a:pt x="6070" y="20466"/>
                  <a:pt x="5888" y="20162"/>
                </a:cubicBezTo>
                <a:cubicBezTo>
                  <a:pt x="5732" y="19903"/>
                  <a:pt x="5551" y="19714"/>
                  <a:pt x="5383" y="19490"/>
                </a:cubicBezTo>
                <a:lnTo>
                  <a:pt x="4710" y="16802"/>
                </a:lnTo>
                <a:cubicBezTo>
                  <a:pt x="4598" y="16354"/>
                  <a:pt x="4453" y="15933"/>
                  <a:pt x="4374" y="15457"/>
                </a:cubicBezTo>
                <a:cubicBezTo>
                  <a:pt x="4318" y="15121"/>
                  <a:pt x="4297" y="14753"/>
                  <a:pt x="4205" y="14449"/>
                </a:cubicBezTo>
                <a:cubicBezTo>
                  <a:pt x="4124" y="14178"/>
                  <a:pt x="3964" y="14031"/>
                  <a:pt x="3869" y="13777"/>
                </a:cubicBezTo>
                <a:cubicBezTo>
                  <a:pt x="3626" y="13131"/>
                  <a:pt x="3533" y="12209"/>
                  <a:pt x="3196" y="11761"/>
                </a:cubicBezTo>
                <a:lnTo>
                  <a:pt x="1177" y="9073"/>
                </a:lnTo>
                <a:cubicBezTo>
                  <a:pt x="417" y="6793"/>
                  <a:pt x="791" y="7628"/>
                  <a:pt x="168" y="6385"/>
                </a:cubicBezTo>
                <a:cubicBezTo>
                  <a:pt x="-71" y="4952"/>
                  <a:pt x="28" y="4425"/>
                  <a:pt x="0" y="40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2227320" y="1716120"/>
            <a:ext cx="1235160" cy="1025640"/>
          </a:xfrm>
          <a:custGeom>
            <a:avLst/>
            <a:gdLst/>
            <a:ahLst/>
            <a:rect l="l" t="t" r="r" b="b"/>
            <a:pathLst>
              <a:path w="21337" h="21600">
                <a:moveTo>
                  <a:pt x="20801" y="8526"/>
                </a:moveTo>
                <a:cubicBezTo>
                  <a:pt x="20723" y="9379"/>
                  <a:pt x="20809" y="10278"/>
                  <a:pt x="20568" y="11084"/>
                </a:cubicBezTo>
                <a:cubicBezTo>
                  <a:pt x="20472" y="11405"/>
                  <a:pt x="20066" y="11411"/>
                  <a:pt x="19867" y="11653"/>
                </a:cubicBezTo>
                <a:cubicBezTo>
                  <a:pt x="19669" y="11894"/>
                  <a:pt x="19526" y="12200"/>
                  <a:pt x="19400" y="12505"/>
                </a:cubicBezTo>
                <a:cubicBezTo>
                  <a:pt x="18813" y="13935"/>
                  <a:pt x="19705" y="13271"/>
                  <a:pt x="18233" y="15063"/>
                </a:cubicBezTo>
                <a:cubicBezTo>
                  <a:pt x="17680" y="15736"/>
                  <a:pt x="17157" y="16447"/>
                  <a:pt x="16365" y="16768"/>
                </a:cubicBezTo>
                <a:cubicBezTo>
                  <a:pt x="16131" y="16863"/>
                  <a:pt x="15884" y="16919"/>
                  <a:pt x="15664" y="17053"/>
                </a:cubicBezTo>
                <a:cubicBezTo>
                  <a:pt x="15413" y="17205"/>
                  <a:pt x="15220" y="17482"/>
                  <a:pt x="14964" y="17621"/>
                </a:cubicBezTo>
                <a:cubicBezTo>
                  <a:pt x="13676" y="18318"/>
                  <a:pt x="13651" y="18092"/>
                  <a:pt x="12395" y="18474"/>
                </a:cubicBezTo>
                <a:cubicBezTo>
                  <a:pt x="11021" y="18892"/>
                  <a:pt x="12103" y="18980"/>
                  <a:pt x="9827" y="19326"/>
                </a:cubicBezTo>
                <a:cubicBezTo>
                  <a:pt x="8882" y="19470"/>
                  <a:pt x="7291" y="19699"/>
                  <a:pt x="6324" y="19895"/>
                </a:cubicBezTo>
                <a:cubicBezTo>
                  <a:pt x="5933" y="19974"/>
                  <a:pt x="5540" y="20052"/>
                  <a:pt x="5157" y="20179"/>
                </a:cubicBezTo>
                <a:cubicBezTo>
                  <a:pt x="4682" y="20337"/>
                  <a:pt x="4165" y="20415"/>
                  <a:pt x="3756" y="20747"/>
                </a:cubicBezTo>
                <a:cubicBezTo>
                  <a:pt x="2851" y="21482"/>
                  <a:pt x="3322" y="21208"/>
                  <a:pt x="2355" y="21600"/>
                </a:cubicBezTo>
                <a:cubicBezTo>
                  <a:pt x="1732" y="21505"/>
                  <a:pt x="1069" y="21599"/>
                  <a:pt x="487" y="21316"/>
                </a:cubicBezTo>
                <a:cubicBezTo>
                  <a:pt x="226" y="21189"/>
                  <a:pt x="31" y="20805"/>
                  <a:pt x="20" y="20463"/>
                </a:cubicBezTo>
                <a:cubicBezTo>
                  <a:pt x="-49" y="18284"/>
                  <a:pt x="69" y="16096"/>
                  <a:pt x="253" y="13926"/>
                </a:cubicBezTo>
                <a:cubicBezTo>
                  <a:pt x="304" y="13330"/>
                  <a:pt x="565" y="12789"/>
                  <a:pt x="720" y="12221"/>
                </a:cubicBezTo>
                <a:lnTo>
                  <a:pt x="1187" y="10516"/>
                </a:lnTo>
                <a:cubicBezTo>
                  <a:pt x="1517" y="8507"/>
                  <a:pt x="1295" y="9553"/>
                  <a:pt x="1888" y="7389"/>
                </a:cubicBezTo>
                <a:lnTo>
                  <a:pt x="2121" y="6537"/>
                </a:lnTo>
                <a:cubicBezTo>
                  <a:pt x="2199" y="6253"/>
                  <a:pt x="2218" y="5933"/>
                  <a:pt x="2355" y="5684"/>
                </a:cubicBezTo>
                <a:lnTo>
                  <a:pt x="2822" y="4832"/>
                </a:lnTo>
                <a:cubicBezTo>
                  <a:pt x="4027" y="432"/>
                  <a:pt x="2646" y="4976"/>
                  <a:pt x="3756" y="2274"/>
                </a:cubicBezTo>
                <a:cubicBezTo>
                  <a:pt x="3989" y="1706"/>
                  <a:pt x="3954" y="976"/>
                  <a:pt x="4456" y="568"/>
                </a:cubicBezTo>
                <a:cubicBezTo>
                  <a:pt x="4689" y="380"/>
                  <a:pt x="6787" y="1"/>
                  <a:pt x="6791" y="0"/>
                </a:cubicBezTo>
                <a:cubicBezTo>
                  <a:pt x="7647" y="95"/>
                  <a:pt x="8513" y="102"/>
                  <a:pt x="9360" y="284"/>
                </a:cubicBezTo>
                <a:cubicBezTo>
                  <a:pt x="9360" y="284"/>
                  <a:pt x="11111" y="995"/>
                  <a:pt x="11461" y="1137"/>
                </a:cubicBezTo>
                <a:lnTo>
                  <a:pt x="16365" y="3126"/>
                </a:lnTo>
                <a:cubicBezTo>
                  <a:pt x="17105" y="3426"/>
                  <a:pt x="17119" y="3349"/>
                  <a:pt x="17766" y="3979"/>
                </a:cubicBezTo>
                <a:cubicBezTo>
                  <a:pt x="17938" y="4146"/>
                  <a:pt x="18036" y="4428"/>
                  <a:pt x="18233" y="4547"/>
                </a:cubicBezTo>
                <a:cubicBezTo>
                  <a:pt x="18520" y="4722"/>
                  <a:pt x="18859" y="4719"/>
                  <a:pt x="19167" y="4832"/>
                </a:cubicBezTo>
                <a:cubicBezTo>
                  <a:pt x="19638" y="5004"/>
                  <a:pt x="20568" y="5400"/>
                  <a:pt x="20568" y="5400"/>
                </a:cubicBezTo>
                <a:cubicBezTo>
                  <a:pt x="20646" y="5684"/>
                  <a:pt x="20691" y="5985"/>
                  <a:pt x="20801" y="6253"/>
                </a:cubicBezTo>
                <a:cubicBezTo>
                  <a:pt x="20927" y="6558"/>
                  <a:pt x="21143" y="6800"/>
                  <a:pt x="21268" y="7105"/>
                </a:cubicBezTo>
                <a:cubicBezTo>
                  <a:pt x="21551" y="7794"/>
                  <a:pt x="20879" y="8289"/>
                  <a:pt x="20801" y="852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1552680" y="2054160"/>
            <a:ext cx="1514520" cy="1092240"/>
          </a:xfrm>
          <a:custGeom>
            <a:avLst/>
            <a:gdLst/>
            <a:ahLst/>
            <a:rect l="l" t="t" r="r" b="b"/>
            <a:pathLst>
              <a:path w="21249" h="21600">
                <a:moveTo>
                  <a:pt x="5312" y="4533"/>
                </a:moveTo>
                <a:cubicBezTo>
                  <a:pt x="5376" y="5422"/>
                  <a:pt x="5405" y="6317"/>
                  <a:pt x="5502" y="7200"/>
                </a:cubicBezTo>
                <a:cubicBezTo>
                  <a:pt x="5532" y="7478"/>
                  <a:pt x="5656" y="7723"/>
                  <a:pt x="5692" y="8000"/>
                </a:cubicBezTo>
                <a:cubicBezTo>
                  <a:pt x="5783" y="8705"/>
                  <a:pt x="5710" y="9458"/>
                  <a:pt x="5881" y="10133"/>
                </a:cubicBezTo>
                <a:cubicBezTo>
                  <a:pt x="6035" y="10737"/>
                  <a:pt x="6318" y="11280"/>
                  <a:pt x="6640" y="11733"/>
                </a:cubicBezTo>
                <a:cubicBezTo>
                  <a:pt x="6993" y="12229"/>
                  <a:pt x="7159" y="12394"/>
                  <a:pt x="7399" y="13067"/>
                </a:cubicBezTo>
                <a:cubicBezTo>
                  <a:pt x="7577" y="13569"/>
                  <a:pt x="7572" y="14319"/>
                  <a:pt x="7968" y="14667"/>
                </a:cubicBezTo>
                <a:cubicBezTo>
                  <a:pt x="8307" y="14965"/>
                  <a:pt x="8773" y="14888"/>
                  <a:pt x="9106" y="15200"/>
                </a:cubicBezTo>
                <a:cubicBezTo>
                  <a:pt x="9841" y="15889"/>
                  <a:pt x="9458" y="15632"/>
                  <a:pt x="10244" y="16000"/>
                </a:cubicBezTo>
                <a:cubicBezTo>
                  <a:pt x="11129" y="15911"/>
                  <a:pt x="12017" y="15879"/>
                  <a:pt x="12899" y="15733"/>
                </a:cubicBezTo>
                <a:cubicBezTo>
                  <a:pt x="13877" y="15572"/>
                  <a:pt x="13137" y="15465"/>
                  <a:pt x="13847" y="14667"/>
                </a:cubicBezTo>
                <a:cubicBezTo>
                  <a:pt x="14093" y="14390"/>
                  <a:pt x="15542" y="14137"/>
                  <a:pt x="15554" y="14133"/>
                </a:cubicBezTo>
                <a:cubicBezTo>
                  <a:pt x="16270" y="13932"/>
                  <a:pt x="16725" y="13673"/>
                  <a:pt x="17451" y="13333"/>
                </a:cubicBezTo>
                <a:lnTo>
                  <a:pt x="18019" y="13067"/>
                </a:lnTo>
                <a:cubicBezTo>
                  <a:pt x="18778" y="13156"/>
                  <a:pt x="19585" y="12949"/>
                  <a:pt x="20295" y="13333"/>
                </a:cubicBezTo>
                <a:cubicBezTo>
                  <a:pt x="20539" y="13465"/>
                  <a:pt x="20410" y="14049"/>
                  <a:pt x="20485" y="14400"/>
                </a:cubicBezTo>
                <a:cubicBezTo>
                  <a:pt x="20600" y="14938"/>
                  <a:pt x="20738" y="15467"/>
                  <a:pt x="20864" y="16000"/>
                </a:cubicBezTo>
                <a:lnTo>
                  <a:pt x="21054" y="16800"/>
                </a:lnTo>
                <a:cubicBezTo>
                  <a:pt x="21097" y="17223"/>
                  <a:pt x="21470" y="19415"/>
                  <a:pt x="21054" y="20000"/>
                </a:cubicBezTo>
                <a:cubicBezTo>
                  <a:pt x="20771" y="20398"/>
                  <a:pt x="20304" y="20397"/>
                  <a:pt x="19916" y="20533"/>
                </a:cubicBezTo>
                <a:cubicBezTo>
                  <a:pt x="18297" y="21103"/>
                  <a:pt x="19417" y="20774"/>
                  <a:pt x="16502" y="21067"/>
                </a:cubicBezTo>
                <a:cubicBezTo>
                  <a:pt x="16186" y="21156"/>
                  <a:pt x="15867" y="21223"/>
                  <a:pt x="15554" y="21333"/>
                </a:cubicBezTo>
                <a:cubicBezTo>
                  <a:pt x="15360" y="21402"/>
                  <a:pt x="15185" y="21600"/>
                  <a:pt x="14985" y="21600"/>
                </a:cubicBezTo>
                <a:cubicBezTo>
                  <a:pt x="14331" y="21600"/>
                  <a:pt x="12731" y="21286"/>
                  <a:pt x="11950" y="21067"/>
                </a:cubicBezTo>
                <a:cubicBezTo>
                  <a:pt x="10177" y="20568"/>
                  <a:pt x="12069" y="21042"/>
                  <a:pt x="10623" y="20533"/>
                </a:cubicBezTo>
                <a:cubicBezTo>
                  <a:pt x="9479" y="20131"/>
                  <a:pt x="9344" y="20277"/>
                  <a:pt x="7968" y="20000"/>
                </a:cubicBezTo>
                <a:cubicBezTo>
                  <a:pt x="7648" y="19936"/>
                  <a:pt x="7335" y="19822"/>
                  <a:pt x="7019" y="19733"/>
                </a:cubicBezTo>
                <a:cubicBezTo>
                  <a:pt x="6766" y="19556"/>
                  <a:pt x="6506" y="19397"/>
                  <a:pt x="6261" y="19200"/>
                </a:cubicBezTo>
                <a:cubicBezTo>
                  <a:pt x="6063" y="19041"/>
                  <a:pt x="5896" y="18810"/>
                  <a:pt x="5692" y="18667"/>
                </a:cubicBezTo>
                <a:cubicBezTo>
                  <a:pt x="5513" y="18541"/>
                  <a:pt x="5312" y="18489"/>
                  <a:pt x="5123" y="18400"/>
                </a:cubicBezTo>
                <a:cubicBezTo>
                  <a:pt x="4996" y="18133"/>
                  <a:pt x="4836" y="17893"/>
                  <a:pt x="4743" y="17600"/>
                </a:cubicBezTo>
                <a:cubicBezTo>
                  <a:pt x="4581" y="17086"/>
                  <a:pt x="4697" y="16312"/>
                  <a:pt x="4364" y="16000"/>
                </a:cubicBezTo>
                <a:lnTo>
                  <a:pt x="3795" y="15467"/>
                </a:lnTo>
                <a:cubicBezTo>
                  <a:pt x="3669" y="15200"/>
                  <a:pt x="3518" y="14953"/>
                  <a:pt x="3416" y="14667"/>
                </a:cubicBezTo>
                <a:cubicBezTo>
                  <a:pt x="3326" y="14415"/>
                  <a:pt x="3351" y="14086"/>
                  <a:pt x="3226" y="13867"/>
                </a:cubicBezTo>
                <a:cubicBezTo>
                  <a:pt x="3084" y="13616"/>
                  <a:pt x="2847" y="13511"/>
                  <a:pt x="2657" y="13333"/>
                </a:cubicBezTo>
                <a:cubicBezTo>
                  <a:pt x="2594" y="13067"/>
                  <a:pt x="2565" y="12779"/>
                  <a:pt x="2467" y="12533"/>
                </a:cubicBezTo>
                <a:cubicBezTo>
                  <a:pt x="2246" y="11973"/>
                  <a:pt x="1853" y="11541"/>
                  <a:pt x="1709" y="10933"/>
                </a:cubicBezTo>
                <a:cubicBezTo>
                  <a:pt x="1646" y="10667"/>
                  <a:pt x="1616" y="10379"/>
                  <a:pt x="1519" y="10133"/>
                </a:cubicBezTo>
                <a:cubicBezTo>
                  <a:pt x="1298" y="9573"/>
                  <a:pt x="905" y="9141"/>
                  <a:pt x="761" y="8533"/>
                </a:cubicBezTo>
                <a:lnTo>
                  <a:pt x="192" y="6133"/>
                </a:lnTo>
                <a:lnTo>
                  <a:pt x="2" y="5333"/>
                </a:lnTo>
                <a:cubicBezTo>
                  <a:pt x="65" y="4089"/>
                  <a:pt x="-130" y="2763"/>
                  <a:pt x="192" y="1600"/>
                </a:cubicBezTo>
                <a:cubicBezTo>
                  <a:pt x="357" y="1003"/>
                  <a:pt x="897" y="736"/>
                  <a:pt x="1330" y="533"/>
                </a:cubicBezTo>
                <a:lnTo>
                  <a:pt x="2467" y="0"/>
                </a:lnTo>
                <a:cubicBezTo>
                  <a:pt x="2847" y="89"/>
                  <a:pt x="3245" y="77"/>
                  <a:pt x="3605" y="267"/>
                </a:cubicBezTo>
                <a:cubicBezTo>
                  <a:pt x="3773" y="355"/>
                  <a:pt x="3845" y="643"/>
                  <a:pt x="3985" y="800"/>
                </a:cubicBezTo>
                <a:cubicBezTo>
                  <a:pt x="5181" y="2146"/>
                  <a:pt x="4017" y="579"/>
                  <a:pt x="4933" y="1867"/>
                </a:cubicBezTo>
                <a:cubicBezTo>
                  <a:pt x="4996" y="2133"/>
                  <a:pt x="5074" y="2394"/>
                  <a:pt x="5123" y="2667"/>
                </a:cubicBezTo>
                <a:cubicBezTo>
                  <a:pt x="5449" y="4500"/>
                  <a:pt x="5281" y="4222"/>
                  <a:pt x="5312" y="45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AutoShape 59"/>
          <p:cNvCxnSpPr>
            <a:stCxn id="158" idx="0"/>
            <a:endCxn id="124" idx="0"/>
          </p:cNvCxnSpPr>
          <p:nvPr/>
        </p:nvCxnSpPr>
        <p:spPr>
          <a:xfrm flipH="1">
            <a:off x="2744280" y="2228760"/>
            <a:ext cx="100800" cy="343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1" name="AutoShape 60"/>
          <p:cNvCxnSpPr>
            <a:stCxn id="159" idx="0"/>
            <a:endCxn id="125" idx="0"/>
          </p:cNvCxnSpPr>
          <p:nvPr/>
        </p:nvCxnSpPr>
        <p:spPr>
          <a:xfrm flipH="1">
            <a:off x="2194920" y="2599920"/>
            <a:ext cx="114840" cy="270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2" name="Line 61"/>
          <p:cNvSpPr/>
          <p:nvPr/>
        </p:nvSpPr>
        <p:spPr>
          <a:xfrm flipH="1">
            <a:off x="8027640" y="2419200"/>
            <a:ext cx="360360" cy="27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AutoShape 62"/>
          <p:cNvCxnSpPr>
            <a:stCxn id="156" idx="0"/>
            <a:endCxn id="126" idx="0"/>
          </p:cNvCxnSpPr>
          <p:nvPr/>
        </p:nvCxnSpPr>
        <p:spPr>
          <a:xfrm flipH="1">
            <a:off x="7522920" y="2905200"/>
            <a:ext cx="234000" cy="282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4" name="Rectangle 63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1619280" y="518940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s can be indexed not only with numbers, but also with strings or any other value of the language, except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["cover"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co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Road = loc.distRoad^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Total = loc.distRoad + loc.dist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eforestationPot = 1/loc.distTo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ationP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in tab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 = {road = 0.3, urban = 2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ro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.total = loc.dist.road + loc.dist.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14440"/>
            <a:ext cx="8534520" cy="48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can carry out a specific task (commonly called procedure) or compute and return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is a first-class value in L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s can be stored in variables and in tables, can be passed as arguments, and can be returned by other functions, giving great flexibility to the langu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 = 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my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tandard librari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184040"/>
            <a:ext cx="85345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sic (print, type, tostring, tonumber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 (string.find, string.gsub, string.forma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(table.insert, table.remove, table.sor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th (math.random, math.sin, math.exp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O (io.open, io.read, io.close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PGothic"/>
                <a:cs typeface="MS PGothic"/>
              </a:rPr>
              <a:t>﻿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8*9, 9/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math.sin(3) + math.cos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os.time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string.find("pattern", "tt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inition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dd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d =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ameters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nil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, 5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 (5 is discarde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High-order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7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unctions can also be parameters to other functions. This kind of function is what we call a higher-order func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x = {7, 3, 2, 6, 4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value, positio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position, val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may have their own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orestPot = function(mylo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turn 1/(myloc.distRoad + myloc.distUrb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Pot(lo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:deforestPot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96984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We can declare a “class” in Lua by creating a function that takes a table constructor as arg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unction MyLocation(loc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covertype = "forest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deforPot = function(se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1/(self.distRoad + self.distUrb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loc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({distRoad = 0.3, distUrban = 2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{distRoad = 0.3, distUrban = 2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.covertyp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:deforPot(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2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68" name="Rectangle 3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Line 5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74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5060520" y="1411200"/>
              <a:ext cx="2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11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-396720" y="4829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1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3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30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1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2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33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35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2124000" y="2924280"/>
            <a:ext cx="1429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8" descr="J:\Dropbox\1_2012\1_DOUTORADO\CONTEÚDO_TESE\2_AGEOGRAPHY_F\figures\Figure2.tif"/>
          <p:cNvPicPr/>
          <p:nvPr/>
        </p:nvPicPr>
        <p:blipFill>
          <a:blip r:embed="rId1"/>
          <a:srcRect l="0" t="0" r="49889" b="0"/>
          <a:stretch/>
        </p:blipFill>
        <p:spPr>
          <a:xfrm>
            <a:off x="1116000" y="4365720"/>
            <a:ext cx="2762280" cy="2163600"/>
          </a:xfrm>
          <a:prstGeom prst="rect">
            <a:avLst/>
          </a:prstGeom>
          <a:ln w="0">
            <a:noFill/>
          </a:ln>
        </p:spPr>
      </p:pic>
      <p:sp>
        <p:nvSpPr>
          <p:cNvPr id="204" name="Oval 39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0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1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42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43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44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45"/>
          <p:cNvSpPr/>
          <p:nvPr/>
        </p:nvSpPr>
        <p:spPr>
          <a:xfrm flipH="1">
            <a:off x="2842920" y="2852640"/>
            <a:ext cx="1429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6" descr="image"/>
          <p:cNvPicPr/>
          <p:nvPr/>
        </p:nvPicPr>
        <p:blipFill>
          <a:blip r:embed="rId2"/>
          <a:stretch/>
        </p:blipFill>
        <p:spPr>
          <a:xfrm>
            <a:off x="2124000" y="342900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7" descr="J:\Dropbox\1_2012\1_DOUTORADO\CONTEÚDO_TESE\2_AGEOGRAPHY_F\figures\Figure2.tif"/>
          <p:cNvPicPr/>
          <p:nvPr/>
        </p:nvPicPr>
        <p:blipFill>
          <a:blip r:embed="rId3"/>
          <a:srcRect l="50560" t="0" r="0" b="0"/>
          <a:stretch/>
        </p:blipFill>
        <p:spPr>
          <a:xfrm>
            <a:off x="6294600" y="4365720"/>
            <a:ext cx="2670120" cy="2117520"/>
          </a:xfrm>
          <a:prstGeom prst="rect">
            <a:avLst/>
          </a:prstGeom>
          <a:ln w="0">
            <a:noFill/>
          </a:ln>
        </p:spPr>
      </p:pic>
      <p:sp>
        <p:nvSpPr>
          <p:cNvPr id="213" name="Line 48"/>
          <p:cNvSpPr/>
          <p:nvPr/>
        </p:nvSpPr>
        <p:spPr>
          <a:xfrm flipH="1">
            <a:off x="802764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49"/>
          <p:cNvSpPr/>
          <p:nvPr/>
        </p:nvSpPr>
        <p:spPr>
          <a:xfrm>
            <a:off x="7451640" y="2924280"/>
            <a:ext cx="2145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0" descr="image"/>
          <p:cNvPicPr/>
          <p:nvPr/>
        </p:nvPicPr>
        <p:blipFill>
          <a:blip r:embed="rId4"/>
          <a:stretch/>
        </p:blipFill>
        <p:spPr>
          <a:xfrm>
            <a:off x="7380360" y="3429000"/>
            <a:ext cx="863640" cy="812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1"/>
          <p:cNvGrpSpPr/>
          <p:nvPr/>
        </p:nvGrpSpPr>
        <p:grpSpPr>
          <a:xfrm>
            <a:off x="6732720" y="1773360"/>
            <a:ext cx="1993680" cy="1439640"/>
            <a:chOff x="6732720" y="1773360"/>
            <a:chExt cx="1993680" cy="1439640"/>
          </a:xfrm>
        </p:grpSpPr>
        <p:sp>
          <p:nvSpPr>
            <p:cNvPr id="217" name="Rectangle 52"/>
            <p:cNvSpPr/>
            <p:nvPr/>
          </p:nvSpPr>
          <p:spPr>
            <a:xfrm>
              <a:off x="6732720" y="1773360"/>
              <a:ext cx="19936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746316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4"/>
          <p:cNvGrpSpPr/>
          <p:nvPr/>
        </p:nvGrpSpPr>
        <p:grpSpPr>
          <a:xfrm>
            <a:off x="1496880" y="1773360"/>
            <a:ext cx="1995480" cy="1439640"/>
            <a:chOff x="1496880" y="1773360"/>
            <a:chExt cx="1995480" cy="1439640"/>
          </a:xfrm>
        </p:grpSpPr>
        <p:sp>
          <p:nvSpPr>
            <p:cNvPr id="220" name="Rectangle 55"/>
            <p:cNvSpPr/>
            <p:nvPr/>
          </p:nvSpPr>
          <p:spPr>
            <a:xfrm>
              <a:off x="1496880" y="1773360"/>
              <a:ext cx="19954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222840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Rectangle 57"/>
          <p:cNvSpPr/>
          <p:nvPr/>
        </p:nvSpPr>
        <p:spPr>
          <a:xfrm>
            <a:off x="3807000" y="5157720"/>
            <a:ext cx="98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8"/>
          <p:cNvSpPr/>
          <p:nvPr/>
        </p:nvSpPr>
        <p:spPr>
          <a:xfrm>
            <a:off x="1116000" y="437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9"/>
          <p:cNvSpPr/>
          <p:nvPr/>
        </p:nvSpPr>
        <p:spPr>
          <a:xfrm>
            <a:off x="8459640" y="4365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[The] advantage of a mathematical statement is that it is so definite that it might be definitely wrong…..Some verbal statements have not this merit; they are so vague that they could hardly be wrong, and are correspondingly useles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Lewis Fry Richardson (1881-1953) – first to apply mathematical methods to numerical weather predi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739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athematical/Computation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7" name="Picture 3" descr="image.png"/>
          <p:cNvPicPr/>
          <p:nvPr/>
        </p:nvPicPr>
        <p:blipFill>
          <a:blip r:embed="rId1"/>
          <a:stretch/>
        </p:blipFill>
        <p:spPr>
          <a:xfrm>
            <a:off x="755640" y="3705120"/>
            <a:ext cx="2575080" cy="313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image.png"/>
          <p:cNvPicPr/>
          <p:nvPr/>
        </p:nvPicPr>
        <p:blipFill>
          <a:blip r:embed="rId2"/>
          <a:stretch/>
        </p:blipFill>
        <p:spPr>
          <a:xfrm>
            <a:off x="4284720" y="3789360"/>
            <a:ext cx="35272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-27000" y="1168560"/>
            <a:ext cx="638280" cy="56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499680"/>
            <a:ext cx="71042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Calibri"/>
              </a:rPr>
              <a:t>TerraME: Computational environment for  developing nature-society models</a:t>
            </a:r>
            <a:endParaRPr b="1" lang="en-US" sz="2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0" y="1636200"/>
            <a:ext cx="8877240" cy="4386600"/>
            <a:chOff x="0" y="1636200"/>
            <a:chExt cx="8877240" cy="4386600"/>
          </a:xfrm>
        </p:grpSpPr>
        <p:sp>
          <p:nvSpPr>
            <p:cNvPr id="232" name="Rectangle 4"/>
            <p:cNvSpPr/>
            <p:nvPr/>
          </p:nvSpPr>
          <p:spPr>
            <a:xfrm>
              <a:off x="0" y="1865160"/>
              <a:ext cx="8877240" cy="4157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Picture 5" descr="npo00014e"/>
            <p:cNvPicPr/>
            <p:nvPr/>
          </p:nvPicPr>
          <p:blipFill>
            <a:blip r:embed="rId1"/>
            <a:stretch/>
          </p:blipFill>
          <p:spPr>
            <a:xfrm>
              <a:off x="295200" y="2054520"/>
              <a:ext cx="5327640" cy="387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Group 6"/>
            <p:cNvGrpSpPr/>
            <p:nvPr/>
          </p:nvGrpSpPr>
          <p:grpSpPr>
            <a:xfrm>
              <a:off x="50760" y="1636200"/>
              <a:ext cx="2108160" cy="305280"/>
              <a:chOff x="50760" y="1636200"/>
              <a:chExt cx="2108160" cy="30528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50760" y="1641960"/>
                <a:ext cx="210816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Rectangle 8"/>
              <p:cNvSpPr/>
              <p:nvPr/>
            </p:nvSpPr>
            <p:spPr>
              <a:xfrm>
                <a:off x="50760" y="1636200"/>
                <a:ext cx="2108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Humnst777 BT"/>
                  </a:rPr>
                  <a:t>Cell Space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7" name="Picture 9" descr="npo000150"/>
            <p:cNvPicPr/>
            <p:nvPr/>
          </p:nvPicPr>
          <p:blipFill>
            <a:blip r:embed="rId2"/>
            <a:stretch/>
          </p:blipFill>
          <p:spPr>
            <a:xfrm>
              <a:off x="5311800" y="3490560"/>
              <a:ext cx="32558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" descr="npo000153"/>
            <p:cNvPicPr/>
            <p:nvPr/>
          </p:nvPicPr>
          <p:blipFill>
            <a:blip r:embed="rId3"/>
            <a:stretch/>
          </p:blipFill>
          <p:spPr>
            <a:xfrm>
              <a:off x="5767560" y="4479840"/>
              <a:ext cx="2990880" cy="14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11" descr="D:\docs\pesquisa\inpe\2009\ccst-workshop\terrame_logo_gimp.bmp"/>
          <p:cNvPicPr/>
          <p:nvPr/>
        </p:nvPicPr>
        <p:blipFill>
          <a:blip r:embed="rId4"/>
          <a:stretch/>
        </p:blipFill>
        <p:spPr>
          <a:xfrm>
            <a:off x="-36360" y="0"/>
            <a:ext cx="1711080" cy="1447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2"/>
          <p:cNvSpPr/>
          <p:nvPr/>
        </p:nvSpPr>
        <p:spPr>
          <a:xfrm>
            <a:off x="6437160" y="6521400"/>
            <a:ext cx="2706840" cy="5785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Helvetica Light"/>
              </a:rPr>
              <a:t>Source: [Carneiro et al., 2013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4286160" y="2106720"/>
            <a:ext cx="893880" cy="492120"/>
            <a:chOff x="4286160" y="2106720"/>
            <a:chExt cx="893880" cy="492120"/>
          </a:xfrm>
        </p:grpSpPr>
        <p:sp>
          <p:nvSpPr>
            <p:cNvPr id="242" name="Rectangle 2"/>
            <p:cNvSpPr/>
            <p:nvPr/>
          </p:nvSpPr>
          <p:spPr>
            <a:xfrm>
              <a:off x="4286160" y="2106720"/>
              <a:ext cx="893880" cy="49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3"/>
            <p:cNvSpPr/>
            <p:nvPr/>
          </p:nvSpPr>
          <p:spPr>
            <a:xfrm>
              <a:off x="4286160" y="2171880"/>
              <a:ext cx="8938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esig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4"/>
          <p:cNvGrpSpPr/>
          <p:nvPr/>
        </p:nvGrpSpPr>
        <p:grpSpPr>
          <a:xfrm>
            <a:off x="6215040" y="2935440"/>
            <a:ext cx="1052640" cy="620280"/>
            <a:chOff x="6215040" y="2935440"/>
            <a:chExt cx="1052640" cy="620280"/>
          </a:xfrm>
        </p:grpSpPr>
        <p:sp>
          <p:nvSpPr>
            <p:cNvPr id="245" name="Rectangle 5"/>
            <p:cNvSpPr/>
            <p:nvPr/>
          </p:nvSpPr>
          <p:spPr>
            <a:xfrm>
              <a:off x="6215040" y="3000240"/>
              <a:ext cx="1052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6215040" y="2935440"/>
              <a:ext cx="105264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atabas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>
            <a:off x="5183280" y="2554200"/>
            <a:ext cx="102708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296040" y="4626000"/>
            <a:ext cx="1052640" cy="490680"/>
            <a:chOff x="6296040" y="4626000"/>
            <a:chExt cx="1052640" cy="490680"/>
          </a:xfrm>
        </p:grpSpPr>
        <p:sp>
          <p:nvSpPr>
            <p:cNvPr id="249" name="Rectangle 9"/>
            <p:cNvSpPr/>
            <p:nvPr/>
          </p:nvSpPr>
          <p:spPr>
            <a:xfrm>
              <a:off x="6296040" y="4626000"/>
              <a:ext cx="1052640" cy="490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6296040" y="4690800"/>
              <a:ext cx="1052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4964040" y="5882760"/>
            <a:ext cx="1673280" cy="620280"/>
            <a:chOff x="4964040" y="5882760"/>
            <a:chExt cx="1673280" cy="620280"/>
          </a:xfrm>
        </p:grpSpPr>
        <p:sp>
          <p:nvSpPr>
            <p:cNvPr id="252" name="Rectangle 12"/>
            <p:cNvSpPr/>
            <p:nvPr/>
          </p:nvSpPr>
          <p:spPr>
            <a:xfrm>
              <a:off x="4964040" y="5946840"/>
              <a:ext cx="1673280" cy="492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4964040" y="5882760"/>
              <a:ext cx="16732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Implement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14"/>
          <p:cNvGrpSpPr/>
          <p:nvPr/>
        </p:nvGrpSpPr>
        <p:grpSpPr>
          <a:xfrm>
            <a:off x="2406600" y="5705640"/>
            <a:ext cx="1357200" cy="492120"/>
            <a:chOff x="2406600" y="5705640"/>
            <a:chExt cx="1357200" cy="492120"/>
          </a:xfrm>
        </p:grpSpPr>
        <p:sp>
          <p:nvSpPr>
            <p:cNvPr id="255" name="Rectangle 15"/>
            <p:cNvSpPr/>
            <p:nvPr/>
          </p:nvSpPr>
          <p:spPr>
            <a:xfrm>
              <a:off x="2406600" y="5705640"/>
              <a:ext cx="135720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2406600" y="577080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Verif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AutoShape 17"/>
          <p:cNvSpPr/>
          <p:nvPr/>
        </p:nvSpPr>
        <p:spPr>
          <a:xfrm>
            <a:off x="6753240" y="3497400"/>
            <a:ext cx="55440" cy="11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8"/>
          <p:cNvSpPr/>
          <p:nvPr/>
        </p:nvSpPr>
        <p:spPr>
          <a:xfrm>
            <a:off x="5994360" y="5122800"/>
            <a:ext cx="633600" cy="81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19"/>
          <p:cNvGrpSpPr/>
          <p:nvPr/>
        </p:nvGrpSpPr>
        <p:grpSpPr>
          <a:xfrm>
            <a:off x="1763640" y="4392720"/>
            <a:ext cx="1357560" cy="492120"/>
            <a:chOff x="1763640" y="4392720"/>
            <a:chExt cx="1357560" cy="492120"/>
          </a:xfrm>
        </p:grpSpPr>
        <p:sp>
          <p:nvSpPr>
            <p:cNvPr id="260" name="Rectangle 20"/>
            <p:cNvSpPr/>
            <p:nvPr/>
          </p:nvSpPr>
          <p:spPr>
            <a:xfrm>
              <a:off x="1763640" y="4392720"/>
              <a:ext cx="1357560" cy="492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1763640" y="445788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imul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1830240" y="2911320"/>
            <a:ext cx="1357560" cy="490680"/>
            <a:chOff x="1830240" y="2911320"/>
            <a:chExt cx="1357560" cy="490680"/>
          </a:xfrm>
        </p:grpSpPr>
        <p:sp>
          <p:nvSpPr>
            <p:cNvPr id="263" name="Rectangle 23"/>
            <p:cNvSpPr/>
            <p:nvPr/>
          </p:nvSpPr>
          <p:spPr>
            <a:xfrm>
              <a:off x="1830240" y="2911320"/>
              <a:ext cx="1357560" cy="490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830240" y="297612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2455920" y="1249200"/>
            <a:ext cx="1357200" cy="492120"/>
            <a:chOff x="2455920" y="1249200"/>
            <a:chExt cx="1357200" cy="492120"/>
          </a:xfrm>
        </p:grpSpPr>
        <p:sp>
          <p:nvSpPr>
            <p:cNvPr id="266" name="Rectangle 26"/>
            <p:cNvSpPr/>
            <p:nvPr/>
          </p:nvSpPr>
          <p:spPr>
            <a:xfrm>
              <a:off x="2455920" y="1249200"/>
              <a:ext cx="1357200" cy="492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2455920" y="131436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Publ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AutoShape 28"/>
          <p:cNvSpPr/>
          <p:nvPr/>
        </p:nvSpPr>
        <p:spPr>
          <a:xfrm>
            <a:off x="2603520" y="1746360"/>
            <a:ext cx="436680" cy="11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3192480" y="2516040"/>
            <a:ext cx="1089000" cy="3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2452680" y="3408480"/>
            <a:ext cx="44280" cy="9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31"/>
          <p:cNvSpPr/>
          <p:nvPr/>
        </p:nvSpPr>
        <p:spPr>
          <a:xfrm>
            <a:off x="2563920" y="4889520"/>
            <a:ext cx="398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32"/>
          <p:cNvSpPr/>
          <p:nvPr/>
        </p:nvSpPr>
        <p:spPr>
          <a:xfrm>
            <a:off x="3768840" y="6012000"/>
            <a:ext cx="119196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7110000" y="2539440"/>
            <a:ext cx="529200" cy="5900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p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3701880" y="1071000"/>
            <a:ext cx="892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7185600" y="447300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6"/>
          <p:cNvSpPr/>
          <p:nvPr/>
        </p:nvSpPr>
        <p:spPr>
          <a:xfrm>
            <a:off x="6581880" y="6250320"/>
            <a:ext cx="2449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(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ysdyn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1417680" y="266976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817920" y="4178880"/>
            <a:ext cx="116460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9"/>
          <p:cNvSpPr/>
          <p:nvPr/>
        </p:nvSpPr>
        <p:spPr>
          <a:xfrm>
            <a:off x="1580760" y="6089040"/>
            <a:ext cx="97272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obser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804080" cy="67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erraME: Cover the Whole Modelling cyc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Yet another script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imple and flex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mple things simple, complex things possib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mall, Efficient, Port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ree and distributed under MIT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608360" y="6323040"/>
            <a:ext cx="45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Lua and the 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robras, the Brazilian Oi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bratel (the main telecommunication company in Braz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ny other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ua is used in hundreds of projects, both commercial and aca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GILua still in restricte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ntil recently all documentation was in Portugu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image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5"/>
          <p:cNvGrpSpPr/>
          <p:nvPr/>
        </p:nvGrpSpPr>
        <p:grpSpPr>
          <a:xfrm>
            <a:off x="108000" y="2878200"/>
            <a:ext cx="7481880" cy="1086840"/>
            <a:chOff x="108000" y="2878200"/>
            <a:chExt cx="7481880" cy="1086840"/>
          </a:xfrm>
        </p:grpSpPr>
        <p:sp>
          <p:nvSpPr>
            <p:cNvPr id="288" name="Rectangle 6"/>
            <p:cNvSpPr/>
            <p:nvPr/>
          </p:nvSpPr>
          <p:spPr>
            <a:xfrm>
              <a:off x="108000" y="2878200"/>
              <a:ext cx="7481880" cy="550440"/>
            </a:xfrm>
            <a:prstGeom prst="rect">
              <a:avLst/>
            </a:prstGeom>
            <a:solidFill>
              <a:srgbClr val="d0d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marL="189000" indent="-1890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108000" y="2878200"/>
              <a:ext cx="7481880" cy="10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Lua is the language of choice for computer gam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0" name="Picture 8" descr="A:\LUALOGO.GIF"/>
          <p:cNvPicPr/>
          <p:nvPr/>
        </p:nvPicPr>
        <p:blipFill>
          <a:blip r:embed="rId2"/>
          <a:stretch/>
        </p:blipFill>
        <p:spPr>
          <a:xfrm>
            <a:off x="7696080" y="2428920"/>
            <a:ext cx="1357560" cy="13809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291" name="Rectangle 9"/>
          <p:cNvSpPr/>
          <p:nvPr/>
        </p:nvSpPr>
        <p:spPr>
          <a:xfrm>
            <a:off x="6643800" y="6546960"/>
            <a:ext cx="25002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Ierusalimschy et al, 1996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6519960"/>
            <a:ext cx="197964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ource: the Lua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Variables and Valu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534520" cy="489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micolon may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ptionally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llow any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 = a*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rib81 pedrorib81</cp:lastModifiedBy>
  <dcterms:modified xsi:type="dcterms:W3CDTF">2019-06-27T20:36:50Z</dcterms:modified>
  <cp:revision>6</cp:revision>
  <dc:subject/>
  <dc:title>Lua for TerraME: A Short Introduction</dc:title>
</cp:coreProperties>
</file>